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A5A1-BAEE-4606-87E2-A2A0B8A0F1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флекс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357-6560-4AC0-87F9-E83531E0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EE9-724E-4159-9D5C-65BAA377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E40-854D-4018-9D09-523CE588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722-1BE6-4ECB-9815-72408A16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3241D-4E1F-4145-AF34-C03EE286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A8545-3334-4D7E-B534-A0F22D8D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0C589-E75F-4592-BD5F-9D3D4716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5A2CD-84D5-40BA-9254-DBC4C123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70AE8-15F2-4890-9743-CED279A1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D1EF0-CF1B-4152-9224-459653E5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DCCCF-B01D-4E02-BF1E-F3CFC0B9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B00-485C-493F-9E13-D28215D8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748C2-641B-42BC-9C4B-872470ED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1CAE0-62E4-4FE2-AB85-FDFF9618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CCFCC-AA41-4CE3-9CFD-3A6C58B6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DA6CA-5478-4FE8-8893-68D9A34E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6C1F0-6B99-4982-ADE1-04FEF761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8991-B793-4B5E-A93C-985DF6EB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41BC-F0E5-43FD-91F2-E148E84E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428C3-F8C4-48F5-9AA8-5858C100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FCBE-5D5D-43E8-993A-67266011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027E6-48EF-4E52-96D6-CA9D8366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743-D822-42A7-804A-9CED8681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5CCCC-257A-4555-93A8-6C1A164F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A242-D2B2-4E64-BF60-9D7C8FA7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CBF8-23D6-453D-8808-D321BC38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951F-8010-4778-B750-A9AFBBD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BFF6-EDCC-4019-8F2F-DD449AB2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5DD0-A0C7-4A20-A3A4-B322439D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ECF0-680D-4E61-9983-8DD99BBD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2646-7C5B-40BA-AB6B-FFDA5A30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72FC7-A796-4513-9652-97013904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ECC1C-0ABF-4CE1-8FF6-DCF39BB1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CB7-7BE0-4A5C-B111-EEFFF0CB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8C212-2476-4444-B432-46A2933E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66D8-9B18-41B6-9344-E5389D56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F673A-349F-4BD5-BDCD-E69DA92B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EBD0E-1B77-4E3F-8D65-DFA128AD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BD217-30A7-4D6D-A55A-71FE8A73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3BC9-2A38-4E7A-9ABB-39182F98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56EC-AC0A-48E4-A94B-61158972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12BB8-9962-40CF-A139-194319A9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5A56-C722-4867-A960-BC900CED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3A671-57BF-42C0-B0B0-4C97311C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9F1-EA76-4AE4-A0C6-3205D6F3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7193E-2BEA-4570-B85C-E46A3C31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16DB8-E6FD-4D9E-9EEB-438FEB75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7447-B60C-4C9A-AAAD-50066288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7F127-831F-4451-8410-07489995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0C4D8-5F7E-4BB8-B6D4-7E824634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2A887-683A-4FA7-9440-FA0A5A4C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1204-A009-4069-A1B7-2798EC7D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53A08-2EC8-4554-B748-EAD59D46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24FCA-B4F8-4914-AF84-D18EEBBD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D69CA-18BD-4497-B51F-4B941C42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521-DD39-4236-8078-C9F877A8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F2FEB-A61C-4D43-AA1B-FDDE48D5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BF396-0816-4EF6-85FC-755728F0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5E0E1-E39F-4EE6-A21C-48044AAB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23B8E-8856-4658-965B-D629CCA7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4E75-EB36-4AD8-9254-570C668A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6F3E6-124D-44C2-B870-B15BD8B5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77335-563A-4716-B0EF-5A4D48E6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0C5DF-0E72-4B08-A4AB-2DB0C72A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0A88B-D865-437A-B0B0-B0A17C0F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83FD8-1E0B-461F-9AE4-1D00B81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DDD-84CD-4950-BE6A-AB364738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2B946-8DFB-4E29-9A0C-815D80B0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D8B3-ADD6-4DC1-AF95-238F08D6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82CF3-6A61-48ED-999C-FD6FB06E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C5326-5B1F-41E9-B11D-A90EE934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CB4E0-A3EE-4B18-A0ED-E760E2D4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7FB66-A598-4C30-AADC-96C54E6C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7E752-0AFF-46C1-B2F0-54F457D8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77E91-A935-4F4B-AEFC-ECBEAEB2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D9597-221E-4370-8411-4792E372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5336B-1204-4524-8411-14F59F0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EAD-EC54-4C67-803B-D40C732C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E605E-B2F9-4EFE-A12B-BF756E82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FAFD3-B47F-4BDF-937A-E3F374AF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41129-2FBE-44DC-9AB9-F7015F95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F997F-F882-4A95-9DF1-9B40FF99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505E2-820B-47C0-A556-E7D2EEEA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3EC-6B2E-4782-A186-2A75B57C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FA64-D894-40FF-9A97-E61C5D4B0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4CA2-CF8B-4784-8ED7-69A7F627E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BB83-B1F9-4FBD-BDA1-21CCDE5D2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4503-1559-40B6-BCEA-8DDFA8B8C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B717-7D4B-449A-94FD-F0A330F9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4134-C9BF-41A8-9554-FB126EFA08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0DFE-E368-4FC2-888F-44BA240D20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ИНИСТЕРСТВО ОБРАЗОВАНИЯ И НАУКИ РОССИЙСКОЙ ФЕДЕРАЦИ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Федеральное агентство по образованию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МИ ГОСУДАРСТВЕННЫЙ ПЕДАГОГИЧЕСКИЙ ИНСТИТУ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Факультет педагогики и методики начального образован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пециальность «Педагогика и методика начального образования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федра педагогики и методики начального образован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очное отде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52280" y="23623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ЗЕНТАЦИЯ ПО ИЗОБРАЗИТЕЛЬНОМУ ИСКУССТ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ХУДОЖЕСТВЕННОМУ ТРУ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РИСОВАНИЕ ДЫМКОВСКОЙ ИГРУ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 руковод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березкой В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полн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удентка 4 курса 643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ебединец Ек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Сыктывкар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ымковская роспис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сновной элемент роспис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геометрические узоры, зигзаги, круги, полоски, волнистые линии, круглые пятна, точки и клет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1815840" cy="25099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062080" cy="29718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6095880" y="3733920"/>
            <a:ext cx="1955880" cy="274140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814680" cy="685800"/>
          </a:xfrm>
          <a:custGeom>
            <a:avLst/>
            <a:gdLst>
              <a:gd name="textAreaLeft" fmla="*/ 44280 w 814680"/>
              <a:gd name="textAreaRight" fmla="*/ 770400 w 814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57" h="21600">
                <a:moveTo>
                  <a:pt x="0" y="0"/>
                </a:moveTo>
                <a:lnTo>
                  <a:pt x="25657" y="0"/>
                </a:lnTo>
                <a:lnTo>
                  <a:pt x="25657" y="21600"/>
                </a:lnTo>
                <a:lnTo>
                  <a:pt x="0" y="21600"/>
                </a:lnTo>
                <a:close/>
              </a:path>
              <a:path fill="lightenLess" w="25657" h="21600">
                <a:moveTo>
                  <a:pt x="0" y="0"/>
                </a:moveTo>
                <a:lnTo>
                  <a:pt x="25657" y="0"/>
                </a:lnTo>
                <a:lnTo>
                  <a:pt x="24257" y="1400"/>
                </a:lnTo>
                <a:lnTo>
                  <a:pt x="1400" y="1400"/>
                </a:lnTo>
                <a:close/>
              </a:path>
              <a:path fill="darken" w="25657" h="21600">
                <a:moveTo>
                  <a:pt x="25657" y="0"/>
                </a:moveTo>
                <a:lnTo>
                  <a:pt x="25657" y="21600"/>
                </a:lnTo>
                <a:lnTo>
                  <a:pt x="24257" y="20200"/>
                </a:lnTo>
                <a:lnTo>
                  <a:pt x="24257" y="1400"/>
                </a:lnTo>
                <a:close/>
              </a:path>
              <a:path fill="darkenLess" w="25657" h="21600">
                <a:moveTo>
                  <a:pt x="25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7" y="20200"/>
                </a:lnTo>
                <a:close/>
              </a:path>
              <a:path fill="lighten" w="25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7" h="21600">
                <a:moveTo>
                  <a:pt x="5822" y="3794"/>
                </a:moveTo>
                <a:lnTo>
                  <a:pt x="19835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дымковской игрушке используют следующие цвета: красный, оранжевый, желтый, малиновый, синий,  голубой, изумрудный, зеленый и в очень небольшом количестве коричневый и черный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2160720" cy="30481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2320920" cy="32720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3581280" y="3200400"/>
            <a:ext cx="2221200" cy="32068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8634240" y="6195960"/>
            <a:ext cx="509760" cy="66204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48">
                <a:moveTo>
                  <a:pt x="0" y="0"/>
                </a:moveTo>
                <a:lnTo>
                  <a:pt x="21600" y="0"/>
                </a:lnTo>
                <a:lnTo>
                  <a:pt x="21600" y="28048"/>
                </a:lnTo>
                <a:lnTo>
                  <a:pt x="0" y="28048"/>
                </a:lnTo>
                <a:close/>
              </a:path>
              <a:path fill="lightenLess" w="21600" h="28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48">
                <a:moveTo>
                  <a:pt x="21600" y="0"/>
                </a:moveTo>
                <a:lnTo>
                  <a:pt x="21600" y="28048"/>
                </a:lnTo>
                <a:lnTo>
                  <a:pt x="20200" y="26648"/>
                </a:lnTo>
                <a:lnTo>
                  <a:pt x="20200" y="1400"/>
                </a:lnTo>
                <a:close/>
              </a:path>
              <a:path fill="darkenLess" w="21600" h="28048">
                <a:moveTo>
                  <a:pt x="21600" y="28048"/>
                </a:moveTo>
                <a:lnTo>
                  <a:pt x="0" y="28048"/>
                </a:lnTo>
                <a:lnTo>
                  <a:pt x="1400" y="26648"/>
                </a:lnTo>
                <a:lnTo>
                  <a:pt x="20200" y="26648"/>
                </a:lnTo>
                <a:close/>
              </a:path>
              <a:path fill="lighten" w="21600" h="28048">
                <a:moveTo>
                  <a:pt x="0" y="28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48"/>
                </a:lnTo>
                <a:close/>
              </a:path>
              <a:path fill="darken" w="21600" h="28048">
                <a:moveTo>
                  <a:pt x="10800" y="7061"/>
                </a:moveTo>
                <a:lnTo>
                  <a:pt x="13376" y="9672"/>
                </a:ln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lnTo>
                  <a:pt x="17763" y="14024"/>
                </a:lnTo>
                <a:lnTo>
                  <a:pt x="16109" y="14024"/>
                </a:lnTo>
                <a:lnTo>
                  <a:pt x="16109" y="21213"/>
                </a:lnTo>
                <a:lnTo>
                  <a:pt x="5491" y="21213"/>
                </a:lnTo>
                <a:lnTo>
                  <a:pt x="5491" y="14024"/>
                </a:lnTo>
                <a:lnTo>
                  <a:pt x="3837" y="14024"/>
                </a:lnTo>
                <a:close/>
              </a:path>
              <a:path fill="darkenLess" w="21600" h="28048">
                <a:moveTo>
                  <a:pt x="13376" y="9672"/>
                </a:move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close/>
              </a:path>
              <a:path fill="darkenLess" w="21600" h="28048">
                <a:moveTo>
                  <a:pt x="9877" y="17523"/>
                </a:moveTo>
                <a:lnTo>
                  <a:pt x="11723" y="17523"/>
                </a:lnTo>
                <a:lnTo>
                  <a:pt x="11723" y="21213"/>
                </a:lnTo>
                <a:lnTo>
                  <a:pt x="16109" y="21213"/>
                </a:lnTo>
                <a:lnTo>
                  <a:pt x="16109" y="14024"/>
                </a:lnTo>
                <a:lnTo>
                  <a:pt x="5491" y="14024"/>
                </a:lnTo>
                <a:lnTo>
                  <a:pt x="5491" y="21213"/>
                </a:lnTo>
                <a:lnTo>
                  <a:pt x="9877" y="21213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ahoma"/>
              </a:rPr>
              <a:t>Как расписывать игрушк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й эскиз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чинай роспись с крупных цветовых пяте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нкие полоски и тёмные точки наноси в последнюю очеред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тёмные и светлые цвета расположены рядом, то начинай со светлог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814680" cy="685800"/>
          </a:xfrm>
          <a:custGeom>
            <a:avLst/>
            <a:gdLst>
              <a:gd name="textAreaLeft" fmla="*/ 44280 w 814680"/>
              <a:gd name="textAreaRight" fmla="*/ 770400 w 814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57" h="21600">
                <a:moveTo>
                  <a:pt x="0" y="0"/>
                </a:moveTo>
                <a:lnTo>
                  <a:pt x="25657" y="0"/>
                </a:lnTo>
                <a:lnTo>
                  <a:pt x="25657" y="21600"/>
                </a:lnTo>
                <a:lnTo>
                  <a:pt x="0" y="21600"/>
                </a:lnTo>
                <a:close/>
              </a:path>
              <a:path fill="lightenLess" w="25657" h="21600">
                <a:moveTo>
                  <a:pt x="0" y="0"/>
                </a:moveTo>
                <a:lnTo>
                  <a:pt x="25657" y="0"/>
                </a:lnTo>
                <a:lnTo>
                  <a:pt x="24257" y="1400"/>
                </a:lnTo>
                <a:lnTo>
                  <a:pt x="1400" y="1400"/>
                </a:lnTo>
                <a:close/>
              </a:path>
              <a:path fill="darken" w="25657" h="21600">
                <a:moveTo>
                  <a:pt x="25657" y="0"/>
                </a:moveTo>
                <a:lnTo>
                  <a:pt x="25657" y="21600"/>
                </a:lnTo>
                <a:lnTo>
                  <a:pt x="24257" y="20200"/>
                </a:lnTo>
                <a:lnTo>
                  <a:pt x="24257" y="1400"/>
                </a:lnTo>
                <a:close/>
              </a:path>
              <a:path fill="darkenLess" w="25657" h="21600">
                <a:moveTo>
                  <a:pt x="25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7" y="20200"/>
                </a:lnTo>
                <a:close/>
              </a:path>
              <a:path fill="lighten" w="25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7" h="21600">
                <a:moveTo>
                  <a:pt x="5822" y="3794"/>
                </a:moveTo>
                <a:lnTo>
                  <a:pt x="19835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забывай оставлять белое поле, иначе игрушка потеряет наряд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ерши работу наклеиванием «золотинок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112920" cy="38797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4038480" cy="3747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8634240" y="6195960"/>
            <a:ext cx="509760" cy="66204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48">
                <a:moveTo>
                  <a:pt x="0" y="0"/>
                </a:moveTo>
                <a:lnTo>
                  <a:pt x="21600" y="0"/>
                </a:lnTo>
                <a:lnTo>
                  <a:pt x="21600" y="28048"/>
                </a:lnTo>
                <a:lnTo>
                  <a:pt x="0" y="28048"/>
                </a:lnTo>
                <a:close/>
              </a:path>
              <a:path fill="lightenLess" w="21600" h="28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48">
                <a:moveTo>
                  <a:pt x="21600" y="0"/>
                </a:moveTo>
                <a:lnTo>
                  <a:pt x="21600" y="28048"/>
                </a:lnTo>
                <a:lnTo>
                  <a:pt x="20200" y="26648"/>
                </a:lnTo>
                <a:lnTo>
                  <a:pt x="20200" y="1400"/>
                </a:lnTo>
                <a:close/>
              </a:path>
              <a:path fill="darkenLess" w="21600" h="28048">
                <a:moveTo>
                  <a:pt x="21600" y="28048"/>
                </a:moveTo>
                <a:lnTo>
                  <a:pt x="0" y="28048"/>
                </a:lnTo>
                <a:lnTo>
                  <a:pt x="1400" y="26648"/>
                </a:lnTo>
                <a:lnTo>
                  <a:pt x="20200" y="26648"/>
                </a:lnTo>
                <a:close/>
              </a:path>
              <a:path fill="lighten" w="21600" h="28048">
                <a:moveTo>
                  <a:pt x="0" y="28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48"/>
                </a:lnTo>
                <a:close/>
              </a:path>
              <a:path fill="darken" w="21600" h="28048">
                <a:moveTo>
                  <a:pt x="10800" y="7061"/>
                </a:moveTo>
                <a:lnTo>
                  <a:pt x="13376" y="9672"/>
                </a:ln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lnTo>
                  <a:pt x="17763" y="14024"/>
                </a:lnTo>
                <a:lnTo>
                  <a:pt x="16109" y="14024"/>
                </a:lnTo>
                <a:lnTo>
                  <a:pt x="16109" y="21213"/>
                </a:lnTo>
                <a:lnTo>
                  <a:pt x="5491" y="21213"/>
                </a:lnTo>
                <a:lnTo>
                  <a:pt x="5491" y="14024"/>
                </a:lnTo>
                <a:lnTo>
                  <a:pt x="3837" y="14024"/>
                </a:lnTo>
                <a:close/>
              </a:path>
              <a:path fill="darkenLess" w="21600" h="28048">
                <a:moveTo>
                  <a:pt x="13376" y="9672"/>
                </a:move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close/>
              </a:path>
              <a:path fill="darkenLess" w="21600" h="28048">
                <a:moveTo>
                  <a:pt x="9877" y="17523"/>
                </a:moveTo>
                <a:lnTo>
                  <a:pt x="11723" y="17523"/>
                </a:lnTo>
                <a:lnTo>
                  <a:pt x="11723" y="21213"/>
                </a:lnTo>
                <a:lnTo>
                  <a:pt x="16109" y="21213"/>
                </a:lnTo>
                <a:lnTo>
                  <a:pt x="16109" y="14024"/>
                </a:lnTo>
                <a:lnTo>
                  <a:pt x="5491" y="14024"/>
                </a:lnTo>
                <a:lnTo>
                  <a:pt x="5491" y="21213"/>
                </a:lnTo>
                <a:lnTo>
                  <a:pt x="9877" y="2121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772400" y="617220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7301"/>
                </a:moveTo>
                <a:lnTo>
                  <a:pt x="6316" y="7301"/>
                </a:lnTo>
                <a:lnTo>
                  <a:pt x="6699" y="7667"/>
                </a:lnTo>
                <a:lnTo>
                  <a:pt x="15907" y="7667"/>
                </a:lnTo>
                <a:lnTo>
                  <a:pt x="16464" y="8224"/>
                </a:lnTo>
                <a:lnTo>
                  <a:pt x="16464" y="8772"/>
                </a:lnTo>
                <a:lnTo>
                  <a:pt x="18309" y="8772"/>
                </a:lnTo>
                <a:lnTo>
                  <a:pt x="18675" y="8224"/>
                </a:lnTo>
                <a:lnTo>
                  <a:pt x="19415" y="8224"/>
                </a:lnTo>
                <a:lnTo>
                  <a:pt x="19415" y="13376"/>
                </a:lnTo>
                <a:lnTo>
                  <a:pt x="18675" y="13376"/>
                </a:lnTo>
                <a:lnTo>
                  <a:pt x="18309" y="12828"/>
                </a:lnTo>
                <a:lnTo>
                  <a:pt x="16464" y="12828"/>
                </a:lnTo>
                <a:lnTo>
                  <a:pt x="16464" y="14107"/>
                </a:lnTo>
                <a:lnTo>
                  <a:pt x="6881" y="14107"/>
                </a:lnTo>
                <a:lnTo>
                  <a:pt x="6881" y="9877"/>
                </a:lnTo>
                <a:lnTo>
                  <a:pt x="6699" y="9877"/>
                </a:lnTo>
                <a:lnTo>
                  <a:pt x="6316" y="10243"/>
                </a:lnTo>
                <a:lnTo>
                  <a:pt x="5402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бята, если вам было интересно и понятно все на уроке, то поднимите желтый кру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было интересно, но сложно работать на уроке-зеленый кру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было скучно и не понятно-красный кру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01000" y="205740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276720"/>
            <a:ext cx="685800" cy="7617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495288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2286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Рефлекс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634240" y="6195960"/>
            <a:ext cx="509760" cy="66204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48">
                <a:moveTo>
                  <a:pt x="0" y="0"/>
                </a:moveTo>
                <a:lnTo>
                  <a:pt x="21600" y="0"/>
                </a:lnTo>
                <a:lnTo>
                  <a:pt x="21600" y="28048"/>
                </a:lnTo>
                <a:lnTo>
                  <a:pt x="0" y="28048"/>
                </a:lnTo>
                <a:close/>
              </a:path>
              <a:path fill="lightenLess" w="21600" h="28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48">
                <a:moveTo>
                  <a:pt x="21600" y="0"/>
                </a:moveTo>
                <a:lnTo>
                  <a:pt x="21600" y="28048"/>
                </a:lnTo>
                <a:lnTo>
                  <a:pt x="20200" y="26648"/>
                </a:lnTo>
                <a:lnTo>
                  <a:pt x="20200" y="1400"/>
                </a:lnTo>
                <a:close/>
              </a:path>
              <a:path fill="darkenLess" w="21600" h="28048">
                <a:moveTo>
                  <a:pt x="21600" y="28048"/>
                </a:moveTo>
                <a:lnTo>
                  <a:pt x="0" y="28048"/>
                </a:lnTo>
                <a:lnTo>
                  <a:pt x="1400" y="26648"/>
                </a:lnTo>
                <a:lnTo>
                  <a:pt x="20200" y="26648"/>
                </a:lnTo>
                <a:close/>
              </a:path>
              <a:path fill="lighten" w="21600" h="28048">
                <a:moveTo>
                  <a:pt x="0" y="28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48"/>
                </a:lnTo>
                <a:close/>
              </a:path>
              <a:path fill="darken" w="21600" h="28048">
                <a:moveTo>
                  <a:pt x="10800" y="7061"/>
                </a:moveTo>
                <a:lnTo>
                  <a:pt x="13376" y="9672"/>
                </a:ln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lnTo>
                  <a:pt x="17763" y="14024"/>
                </a:lnTo>
                <a:lnTo>
                  <a:pt x="16109" y="14024"/>
                </a:lnTo>
                <a:lnTo>
                  <a:pt x="16109" y="21213"/>
                </a:lnTo>
                <a:lnTo>
                  <a:pt x="5491" y="21213"/>
                </a:lnTo>
                <a:lnTo>
                  <a:pt x="5491" y="14024"/>
                </a:lnTo>
                <a:lnTo>
                  <a:pt x="3837" y="14024"/>
                </a:lnTo>
                <a:close/>
              </a:path>
              <a:path fill="darkenLess" w="21600" h="28048">
                <a:moveTo>
                  <a:pt x="13376" y="9672"/>
                </a:move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close/>
              </a:path>
              <a:path fill="darkenLess" w="21600" h="28048">
                <a:moveTo>
                  <a:pt x="9877" y="17523"/>
                </a:moveTo>
                <a:lnTo>
                  <a:pt x="11723" y="17523"/>
                </a:lnTo>
                <a:lnTo>
                  <a:pt x="11723" y="21213"/>
                </a:lnTo>
                <a:lnTo>
                  <a:pt x="16109" y="21213"/>
                </a:lnTo>
                <a:lnTo>
                  <a:pt x="16109" y="14024"/>
                </a:lnTo>
                <a:lnTo>
                  <a:pt x="5491" y="14024"/>
                </a:lnTo>
                <a:lnTo>
                  <a:pt x="5491" y="21213"/>
                </a:lnTo>
                <a:lnTo>
                  <a:pt x="9877" y="212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ahoma"/>
              </a:rPr>
              <a:t>Спасибо за работу на уроке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образительное искусство: Учеб. Для 1 кл.нач.шк./ Т.Я.Шпикалова.-2-3 издание.-М.: Просвещение, 2004.-94с.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голюбов Н.С. Лепка на занятиях в школьном кружке. М.: Просвещение, 1979. 14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www.1-kvazar.ru/u_dymk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ahoma"/>
              </a:rPr>
              <a:t>Содержа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рическая справка о дымковской игруш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обенности лепки персонаж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ымковская роспис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расписывать игруш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8634240" y="6195960"/>
            <a:ext cx="509760" cy="66204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48">
                <a:moveTo>
                  <a:pt x="0" y="0"/>
                </a:moveTo>
                <a:lnTo>
                  <a:pt x="21600" y="0"/>
                </a:lnTo>
                <a:lnTo>
                  <a:pt x="21600" y="28048"/>
                </a:lnTo>
                <a:lnTo>
                  <a:pt x="0" y="28048"/>
                </a:lnTo>
                <a:close/>
              </a:path>
              <a:path fill="lightenLess" w="21600" h="28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48">
                <a:moveTo>
                  <a:pt x="21600" y="0"/>
                </a:moveTo>
                <a:lnTo>
                  <a:pt x="21600" y="28048"/>
                </a:lnTo>
                <a:lnTo>
                  <a:pt x="20200" y="26648"/>
                </a:lnTo>
                <a:lnTo>
                  <a:pt x="20200" y="1400"/>
                </a:lnTo>
                <a:close/>
              </a:path>
              <a:path fill="darkenLess" w="21600" h="28048">
                <a:moveTo>
                  <a:pt x="21600" y="28048"/>
                </a:moveTo>
                <a:lnTo>
                  <a:pt x="0" y="28048"/>
                </a:lnTo>
                <a:lnTo>
                  <a:pt x="1400" y="26648"/>
                </a:lnTo>
                <a:lnTo>
                  <a:pt x="20200" y="26648"/>
                </a:lnTo>
                <a:close/>
              </a:path>
              <a:path fill="lighten" w="21600" h="28048">
                <a:moveTo>
                  <a:pt x="0" y="28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48"/>
                </a:lnTo>
                <a:close/>
              </a:path>
              <a:path fill="darken" w="21600" h="28048">
                <a:moveTo>
                  <a:pt x="10800" y="7061"/>
                </a:moveTo>
                <a:lnTo>
                  <a:pt x="13376" y="9672"/>
                </a:ln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lnTo>
                  <a:pt x="17763" y="14024"/>
                </a:lnTo>
                <a:lnTo>
                  <a:pt x="16109" y="14024"/>
                </a:lnTo>
                <a:lnTo>
                  <a:pt x="16109" y="21213"/>
                </a:lnTo>
                <a:lnTo>
                  <a:pt x="5491" y="21213"/>
                </a:lnTo>
                <a:lnTo>
                  <a:pt x="5491" y="14024"/>
                </a:lnTo>
                <a:lnTo>
                  <a:pt x="3837" y="14024"/>
                </a:lnTo>
                <a:close/>
              </a:path>
              <a:path fill="darkenLess" w="21600" h="28048">
                <a:moveTo>
                  <a:pt x="13376" y="9672"/>
                </a:move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close/>
              </a:path>
              <a:path fill="darkenLess" w="21600" h="28048">
                <a:moveTo>
                  <a:pt x="9877" y="17523"/>
                </a:moveTo>
                <a:lnTo>
                  <a:pt x="11723" y="17523"/>
                </a:lnTo>
                <a:lnTo>
                  <a:pt x="11723" y="21213"/>
                </a:lnTo>
                <a:lnTo>
                  <a:pt x="16109" y="21213"/>
                </a:lnTo>
                <a:lnTo>
                  <a:pt x="16109" y="14024"/>
                </a:lnTo>
                <a:lnTo>
                  <a:pt x="5491" y="14024"/>
                </a:lnTo>
                <a:lnTo>
                  <a:pt x="5491" y="21213"/>
                </a:lnTo>
                <a:lnTo>
                  <a:pt x="9877" y="21213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ahoma"/>
              </a:rPr>
              <a:t>Историческая справка о дымковской игрушк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первые этот народный промысел появился близ города Кирова, в небольшой слободе Дымково. Яркие фигурки из глины, расписанной красками сочных солнечных цветов местные крестьяне лепили к празднику Вятской Свистуньи, который традиционно отмечался весн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814680" cy="685800"/>
          </a:xfrm>
          <a:custGeom>
            <a:avLst/>
            <a:gdLst>
              <a:gd name="textAreaLeft" fmla="*/ 44280 w 814680"/>
              <a:gd name="textAreaRight" fmla="*/ 770400 w 814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57" h="21600">
                <a:moveTo>
                  <a:pt x="0" y="0"/>
                </a:moveTo>
                <a:lnTo>
                  <a:pt x="25657" y="0"/>
                </a:lnTo>
                <a:lnTo>
                  <a:pt x="25657" y="21600"/>
                </a:lnTo>
                <a:lnTo>
                  <a:pt x="0" y="21600"/>
                </a:lnTo>
                <a:close/>
              </a:path>
              <a:path fill="lightenLess" w="25657" h="21600">
                <a:moveTo>
                  <a:pt x="0" y="0"/>
                </a:moveTo>
                <a:lnTo>
                  <a:pt x="25657" y="0"/>
                </a:lnTo>
                <a:lnTo>
                  <a:pt x="24257" y="1400"/>
                </a:lnTo>
                <a:lnTo>
                  <a:pt x="1400" y="1400"/>
                </a:lnTo>
                <a:close/>
              </a:path>
              <a:path fill="darken" w="25657" h="21600">
                <a:moveTo>
                  <a:pt x="25657" y="0"/>
                </a:moveTo>
                <a:lnTo>
                  <a:pt x="25657" y="21600"/>
                </a:lnTo>
                <a:lnTo>
                  <a:pt x="24257" y="20200"/>
                </a:lnTo>
                <a:lnTo>
                  <a:pt x="24257" y="1400"/>
                </a:lnTo>
                <a:close/>
              </a:path>
              <a:path fill="darkenLess" w="25657" h="21600">
                <a:moveTo>
                  <a:pt x="25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7" y="20200"/>
                </a:lnTo>
                <a:close/>
              </a:path>
              <a:path fill="lighten" w="25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7" h="21600">
                <a:moveTo>
                  <a:pt x="5822" y="3794"/>
                </a:moveTo>
                <a:lnTo>
                  <a:pt x="19835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форме и виду дымковские игрушки довольно разнообразны. Как правило, это вылепленные из глины, полые внутри фигурки кавалеров и барышень, медведей, лошадей, пышнохвостых индюков, петухов, коров и козлов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1978200" cy="2724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98760" cy="3645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1784520" cy="32641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2005200" cy="261000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rId5" action="ppaction://hlinksldjump"/>
          </p:cNvPr>
          <p:cNvSpPr/>
          <p:nvPr/>
        </p:nvSpPr>
        <p:spPr>
          <a:xfrm>
            <a:off x="8634240" y="6195960"/>
            <a:ext cx="509760" cy="66204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48">
                <a:moveTo>
                  <a:pt x="0" y="0"/>
                </a:moveTo>
                <a:lnTo>
                  <a:pt x="21600" y="0"/>
                </a:lnTo>
                <a:lnTo>
                  <a:pt x="21600" y="28048"/>
                </a:lnTo>
                <a:lnTo>
                  <a:pt x="0" y="28048"/>
                </a:lnTo>
                <a:close/>
              </a:path>
              <a:path fill="lightenLess" w="21600" h="28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48">
                <a:moveTo>
                  <a:pt x="21600" y="0"/>
                </a:moveTo>
                <a:lnTo>
                  <a:pt x="21600" y="28048"/>
                </a:lnTo>
                <a:lnTo>
                  <a:pt x="20200" y="26648"/>
                </a:lnTo>
                <a:lnTo>
                  <a:pt x="20200" y="1400"/>
                </a:lnTo>
                <a:close/>
              </a:path>
              <a:path fill="darkenLess" w="21600" h="28048">
                <a:moveTo>
                  <a:pt x="21600" y="28048"/>
                </a:moveTo>
                <a:lnTo>
                  <a:pt x="0" y="28048"/>
                </a:lnTo>
                <a:lnTo>
                  <a:pt x="1400" y="26648"/>
                </a:lnTo>
                <a:lnTo>
                  <a:pt x="20200" y="26648"/>
                </a:lnTo>
                <a:close/>
              </a:path>
              <a:path fill="lighten" w="21600" h="28048">
                <a:moveTo>
                  <a:pt x="0" y="28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48"/>
                </a:lnTo>
                <a:close/>
              </a:path>
              <a:path fill="darken" w="21600" h="28048">
                <a:moveTo>
                  <a:pt x="10800" y="7061"/>
                </a:moveTo>
                <a:lnTo>
                  <a:pt x="13376" y="9672"/>
                </a:ln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lnTo>
                  <a:pt x="17763" y="14024"/>
                </a:lnTo>
                <a:lnTo>
                  <a:pt x="16109" y="14024"/>
                </a:lnTo>
                <a:lnTo>
                  <a:pt x="16109" y="21213"/>
                </a:lnTo>
                <a:lnTo>
                  <a:pt x="5491" y="21213"/>
                </a:lnTo>
                <a:lnTo>
                  <a:pt x="5491" y="14024"/>
                </a:lnTo>
                <a:lnTo>
                  <a:pt x="3837" y="14024"/>
                </a:lnTo>
                <a:close/>
              </a:path>
              <a:path fill="darkenLess" w="21600" h="28048">
                <a:moveTo>
                  <a:pt x="13376" y="9672"/>
                </a:move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close/>
              </a:path>
              <a:path fill="darkenLess" w="21600" h="28048">
                <a:moveTo>
                  <a:pt x="9877" y="17523"/>
                </a:moveTo>
                <a:lnTo>
                  <a:pt x="11723" y="17523"/>
                </a:lnTo>
                <a:lnTo>
                  <a:pt x="11723" y="21213"/>
                </a:lnTo>
                <a:lnTo>
                  <a:pt x="16109" y="21213"/>
                </a:lnTo>
                <a:lnTo>
                  <a:pt x="16109" y="14024"/>
                </a:lnTo>
                <a:lnTo>
                  <a:pt x="5491" y="14024"/>
                </a:lnTo>
                <a:lnTo>
                  <a:pt x="5491" y="21213"/>
                </a:lnTo>
                <a:lnTo>
                  <a:pt x="9877" y="21213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ahoma"/>
              </a:rPr>
              <a:t>Особенности лепки персонаже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ымковскую игрушку лепят по частям, которые тщательно соединяют между собой таким образом, что создается впечатление ц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4495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33720" y="3200400"/>
            <a:ext cx="3303720" cy="36576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55560" y="3200400"/>
            <a:ext cx="2092320" cy="3467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550200" y="3276720"/>
            <a:ext cx="2593800" cy="2771640"/>
          </a:xfrm>
          <a:prstGeom prst="rect">
            <a:avLst/>
          </a:prstGeom>
          <a:ln w="0">
            <a:noFill/>
          </a:ln>
        </p:spPr>
      </p:pic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8329680" y="61722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астической основой для всех женских фигурок является ступка-колокол — устойчивое основание и в то же время пышная юбк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562200" cy="556236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8329680" y="61722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сота ступки больше половины общей высоты фигурки барышни. К ступке прикрепляют торс, а к нему - шарик-головку, скатанные калачиком ру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другие лепные детали одежды и головного убора, характерные для данной композици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122200" cy="487656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8329680" y="61722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ужские образы лепят по-другому. Торс с головкой прикрепляют к двум толстым, соединенным наверху "колбаскам", немного суженным книзу на конус. Загнув эти колбаски, получают ножки фигур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3880" y="2982960"/>
            <a:ext cx="4057920" cy="38750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3200400" cy="426744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153280" y="5943600"/>
            <a:ext cx="814680" cy="685800"/>
          </a:xfrm>
          <a:custGeom>
            <a:avLst/>
            <a:gdLst>
              <a:gd name="textAreaLeft" fmla="*/ 44280 w 814680"/>
              <a:gd name="textAreaRight" fmla="*/ 770400 w 814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57" h="21600">
                <a:moveTo>
                  <a:pt x="0" y="0"/>
                </a:moveTo>
                <a:lnTo>
                  <a:pt x="25657" y="0"/>
                </a:lnTo>
                <a:lnTo>
                  <a:pt x="25657" y="21600"/>
                </a:lnTo>
                <a:lnTo>
                  <a:pt x="0" y="21600"/>
                </a:lnTo>
                <a:close/>
              </a:path>
              <a:path fill="lightenLess" w="25657" h="21600">
                <a:moveTo>
                  <a:pt x="0" y="0"/>
                </a:moveTo>
                <a:lnTo>
                  <a:pt x="25657" y="0"/>
                </a:lnTo>
                <a:lnTo>
                  <a:pt x="24257" y="1400"/>
                </a:lnTo>
                <a:lnTo>
                  <a:pt x="1400" y="1400"/>
                </a:lnTo>
                <a:close/>
              </a:path>
              <a:path fill="darken" w="25657" h="21600">
                <a:moveTo>
                  <a:pt x="25657" y="0"/>
                </a:moveTo>
                <a:lnTo>
                  <a:pt x="25657" y="21600"/>
                </a:lnTo>
                <a:lnTo>
                  <a:pt x="24257" y="20200"/>
                </a:lnTo>
                <a:lnTo>
                  <a:pt x="24257" y="1400"/>
                </a:lnTo>
                <a:close/>
              </a:path>
              <a:path fill="darkenLess" w="25657" h="21600">
                <a:moveTo>
                  <a:pt x="25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7" y="20200"/>
                </a:lnTo>
                <a:close/>
              </a:path>
              <a:path fill="lighten" w="25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7" h="21600">
                <a:moveTo>
                  <a:pt x="5822" y="3794"/>
                </a:moveTo>
                <a:lnTo>
                  <a:pt x="19835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уловище животных напоминает усеченный конус, к более узкой части которого прикрепляют голову с шеей. Ножки животных — четыре одинаковые колбаски, чуть суженные книзу, прикрепляют к торсу животного, хвост и рога лепят отдельно и прикрепляют позже других деталей.</a:t>
            </a:r>
            <a:br>
              <a:rPr sz="24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2665440" cy="33526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886200" y="3267000"/>
            <a:ext cx="1886040" cy="3591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6248520" y="3505320"/>
            <a:ext cx="2635200" cy="297180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rId4" action="ppaction://hlinksldjump"/>
          </p:cNvPr>
          <p:cNvSpPr/>
          <p:nvPr/>
        </p:nvSpPr>
        <p:spPr>
          <a:xfrm>
            <a:off x="8634240" y="6195960"/>
            <a:ext cx="509760" cy="66204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48">
                <a:moveTo>
                  <a:pt x="0" y="0"/>
                </a:moveTo>
                <a:lnTo>
                  <a:pt x="21600" y="0"/>
                </a:lnTo>
                <a:lnTo>
                  <a:pt x="21600" y="28048"/>
                </a:lnTo>
                <a:lnTo>
                  <a:pt x="0" y="28048"/>
                </a:lnTo>
                <a:close/>
              </a:path>
              <a:path fill="lightenLess" w="21600" h="28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48">
                <a:moveTo>
                  <a:pt x="21600" y="0"/>
                </a:moveTo>
                <a:lnTo>
                  <a:pt x="21600" y="28048"/>
                </a:lnTo>
                <a:lnTo>
                  <a:pt x="20200" y="26648"/>
                </a:lnTo>
                <a:lnTo>
                  <a:pt x="20200" y="1400"/>
                </a:lnTo>
                <a:close/>
              </a:path>
              <a:path fill="darkenLess" w="21600" h="28048">
                <a:moveTo>
                  <a:pt x="21600" y="28048"/>
                </a:moveTo>
                <a:lnTo>
                  <a:pt x="0" y="28048"/>
                </a:lnTo>
                <a:lnTo>
                  <a:pt x="1400" y="26648"/>
                </a:lnTo>
                <a:lnTo>
                  <a:pt x="20200" y="26648"/>
                </a:lnTo>
                <a:close/>
              </a:path>
              <a:path fill="lighten" w="21600" h="28048">
                <a:moveTo>
                  <a:pt x="0" y="28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48"/>
                </a:lnTo>
                <a:close/>
              </a:path>
              <a:path fill="darken" w="21600" h="28048">
                <a:moveTo>
                  <a:pt x="10800" y="7061"/>
                </a:moveTo>
                <a:lnTo>
                  <a:pt x="13376" y="9672"/>
                </a:ln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lnTo>
                  <a:pt x="17763" y="14024"/>
                </a:lnTo>
                <a:lnTo>
                  <a:pt x="16109" y="14024"/>
                </a:lnTo>
                <a:lnTo>
                  <a:pt x="16109" y="21213"/>
                </a:lnTo>
                <a:lnTo>
                  <a:pt x="5491" y="21213"/>
                </a:lnTo>
                <a:lnTo>
                  <a:pt x="5491" y="14024"/>
                </a:lnTo>
                <a:lnTo>
                  <a:pt x="3837" y="14024"/>
                </a:lnTo>
                <a:close/>
              </a:path>
              <a:path fill="darkenLess" w="21600" h="28048">
                <a:moveTo>
                  <a:pt x="13376" y="9672"/>
                </a:move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close/>
              </a:path>
              <a:path fill="darkenLess" w="21600" h="28048">
                <a:moveTo>
                  <a:pt x="9877" y="17523"/>
                </a:moveTo>
                <a:lnTo>
                  <a:pt x="11723" y="17523"/>
                </a:lnTo>
                <a:lnTo>
                  <a:pt x="11723" y="21213"/>
                </a:lnTo>
                <a:lnTo>
                  <a:pt x="16109" y="21213"/>
                </a:lnTo>
                <a:lnTo>
                  <a:pt x="16109" y="14024"/>
                </a:lnTo>
                <a:lnTo>
                  <a:pt x="5491" y="14024"/>
                </a:lnTo>
                <a:lnTo>
                  <a:pt x="5491" y="21213"/>
                </a:lnTo>
                <a:lnTo>
                  <a:pt x="9877" y="2121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09T08:09:3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